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07E-CDB3-41DC-9DA4-73806C0E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08BB-D313-4ED6-A818-2519F79F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315-20F1-44AD-9E1D-7579DA67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AD4-6F0B-4B0B-9A5B-93D934CB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03F-B8D5-4B58-A1B6-F3DF0FC7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452-CA39-4AE0-869B-9A3DF9AD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16F-E2A3-4AF3-A96B-68CEA68E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8987-6B50-4891-83A8-16EDA44D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540-E037-47F0-900F-B5D81C58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682-3BE7-4E48-A759-8BFD03A6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9BB-D01B-4DA2-AF95-4D3EE57D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A681-AEDB-4967-A386-F8672379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B1C1-3360-4D14-BC94-4A04DF772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0248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P0249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3:57:49Z</dcterms:created>
  <dc:creator>USER</dc:creator>
  <dc:description/>
  <dc:language>en-US</dc:language>
  <cp:lastModifiedBy>USER</cp:lastModifiedBy>
  <dcterms:modified xsi:type="dcterms:W3CDTF">2002-11-01T03:57:57Z</dcterms:modified>
  <cp:revision>1</cp:revision>
  <dc:subject/>
  <dc:title>PowerPoint Presentation</dc:title>
</cp:coreProperties>
</file>